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E70-805C-40F2-AEC1-034D2FEC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0B7-8E9E-4952-AEC4-0E7E066E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353-BB12-47AE-AB73-FC2F6B27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90B-503F-4C41-A63D-56A8A20C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868-CC68-4ECC-910D-B9A04BB6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FBC-E285-4894-B532-190DFC2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C33-D975-4B8C-81D5-7225BB37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0AA-5D62-4434-A526-648CC60A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BC3-F06B-4C6B-8135-0B589445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727-5152-4B83-8755-B3D4D188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287-CFCC-4CE2-90F9-7EDF6420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C22-7E8C-4F0E-ADF4-207A0AED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7C07-9274-4597-9E11-BCE40C138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9020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620800" y="1405080"/>
            <a:ext cx="3902400" cy="4046400"/>
            <a:chOff x="2620800" y="1405080"/>
            <a:chExt cx="3902400" cy="4046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620800" y="1405080"/>
              <a:ext cx="3902400" cy="40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867120" y="4468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9600" y="3868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81440" y="326880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759120" y="2887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16240" y="3429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0280" y="3141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79880" y="2855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27800" y="3451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52760" y="337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17760" y="3090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24400" y="2846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26080" y="30481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9640" y="28368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9640" y="25686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86400" y="2332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92840" y="20718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0800" y="1405080"/>
            <a:ext cx="39024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81640" y="3584520"/>
            <a:ext cx="244440" cy="244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05000" y="1720800"/>
            <a:ext cx="109800" cy="12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10040" y="36115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59000" y="1811160"/>
            <a:ext cx="0" cy="19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51080" y="3720960"/>
            <a:ext cx="14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61000" y="132084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84680" y="4073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79840" y="2639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168360" y="1801800"/>
            <a:ext cx="1439640" cy="19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925720" y="1746000"/>
            <a:ext cx="2281320" cy="18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16840" y="157464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08280" y="1941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2200" y="17413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iew 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314520" y="2118960"/>
            <a:ext cx="20772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75040" y="1829880"/>
            <a:ext cx="1150920" cy="9334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4760" y="1998720"/>
            <a:ext cx="61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p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1200" spc="-1" strike="noStrike">
                <a:solidFill>
                  <a:srgbClr val="ff5050"/>
                </a:solidFill>
                <a:latin typeface="Times New Roman"/>
              </a:rPr>
              <a:t>angle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18080" y="1882800"/>
            <a:ext cx="425520" cy="18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9680" y="2797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26000" y="2209680"/>
            <a:ext cx="0" cy="15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11800" y="32018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6760" y="3763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x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19680" y="2797200"/>
            <a:ext cx="70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9040" y="2503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x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40200" y="32529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363920" y="3332160"/>
            <a:ext cx="26208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9160" y="3110040"/>
            <a:ext cx="4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56200" y="2970000"/>
            <a:ext cx="64296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59080" y="2801880"/>
            <a:ext cx="4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9800" y="2211480"/>
            <a:ext cx="7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-t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6000" y="2571840"/>
            <a:ext cx="26208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01:14:16Z</dcterms:created>
  <dc:creator>AW</dc:creator>
  <dc:description/>
  <dc:language>en-US</dc:language>
  <cp:lastModifiedBy>AW</cp:lastModifiedBy>
  <dcterms:modified xsi:type="dcterms:W3CDTF">2002-01-31T21:43:09Z</dcterms:modified>
  <cp:revision>15</cp:revision>
  <dc:subject/>
  <dc:title>PowerPoint Presentation</dc:title>
</cp:coreProperties>
</file>